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E25-CEBC-465D-AF26-8DC4143B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878-15A3-4F4C-B212-5529865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04BB1-20CD-428C-AB1D-0B206E1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2B0E6-7F5B-4337-AF70-4AC0E8E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34910-CF9E-4948-8D98-95E5BD11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C4451-955D-46A9-AA5F-DA94AB2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85B86-64C4-46D7-9101-7041CC7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D7539-ED28-421E-9312-5E03369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CB1D1-7BE9-4ECC-A823-06031B05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E2E8B-EC0F-4650-BD97-DE987545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2D972-5431-4579-B9D2-D395EE8B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2293A-7020-4232-AE3C-E70C7B4D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D58-3F96-4850-AB26-B7A9F9FE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D4065-06FC-4539-A4AA-E3AC05B5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52CE5-EDB3-42D3-97CC-94B8D8C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876E1-76F5-4E4E-A27B-1B184C9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7BBF1-76D9-4A77-A3C4-85D4FDD6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CB31D-820D-4D65-AA98-7A468B27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7A5A5-F6AD-4945-AD60-2B95DA94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4389F-646C-489F-A13D-B11D489A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D7D18-8986-401D-806B-78FCFBA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7B49C-6A91-499E-B883-15D5B9D4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F613D-20C4-46A7-AA53-7E73F092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75E-9811-44FB-89FA-2ED7A09E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EF17D-DFD6-44AB-A82E-F5A754C3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ED3B3-F6E1-4759-9FD4-679D7919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5813C-29D6-4110-8094-CB164E0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27E3-053D-4EA5-B8F8-CD6E5688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D2036-DA6A-4A86-BBA1-EA221022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72D5-5BF1-4332-A164-0A7509A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77E0-BA79-4DDB-9016-4DB3287E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C837B-85C2-44D4-87DC-36338E5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EBA4F-ECEE-4B76-B5C8-84FC115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97598-6C2E-493F-9A3A-5335147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AE4-A2A7-4C05-A3CB-539140D5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0E252-D3E7-463C-A0E8-FDFD9D81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A8F7-4951-4F77-A271-21D18F8A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25747-6A09-4C23-AC43-2D01C215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365B1-41BA-4B31-8FBF-026F9080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AB1E5-4BDE-4C70-B858-87D57451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A5AE5-67BE-47A7-BCF6-D18B5B44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663CF-E51E-4594-89B8-9AF65948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22024-0DF6-4858-B5E2-60A1B32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AFE79-A0E1-48AD-BEBC-082D3E06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E427B-C5CA-4A82-B785-3053AA7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B16D-4F9B-46D9-B5FD-846B06E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5095F-3358-4ED1-B5F0-F4A3928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5616E-4FB4-46A1-9844-90743AE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FB4A2-2502-4F12-91F8-7F132BF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31430-5332-4994-9E59-A8A36CFE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E9D5C-2401-47AF-B275-EBCAF84B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4BC-1E93-47DC-829C-3886BC82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9B35-4EF7-449B-BD52-827ECCB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8F2B-29A3-4B04-BD99-90C084C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D33-D146-40D3-A489-47ADC322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997-0193-4E5F-BC38-AA81B18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C2C-0847-4BB7-A65D-D48D5B8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DB2F-F7B2-4A75-8CBC-A43610B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E8D3-9C2B-4D62-BAD0-97A8078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2C36-6B1F-4C06-BFD4-9959BF4B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7C51-7750-4C63-ADB4-92A8630B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FC9D-EFA6-469A-934F-9FE11B0F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356B-D68C-494A-9D26-7A800636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5CAC-7BCF-465E-BA40-7A611F0C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B489-6735-4061-A7BC-FA307E08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3D25-FE17-4D1F-8CC2-B16A70A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0359-767B-4BC2-9194-639095B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4EF-A9AF-4B36-B39B-203DF7E4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B136-5F77-4E22-99FA-99501FC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075F-2017-4AD5-B666-6139613F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4818-A02D-4334-AD69-DF28F6D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C7FA-007B-4CB6-8FFF-63D0EC0B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B83D-D183-4BB3-9B30-6B51286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D663-CF34-4A19-A73B-C15F5BAC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8E27-3ACE-47A1-8795-9CA49C51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7D05-5030-4363-901A-03BCBD01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E474-FF75-49B1-8C86-DA04D449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70C0-2601-472F-A7F1-B5AC7170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F50-EEB3-4548-ABB7-EE9AACA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7A95-D83C-481F-BBFA-EFF46D6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DCF1-F9E1-458E-8043-3C8448FD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CAD8-3D19-4C7C-AFDC-FBAC7CBB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34AD-6D41-4CBC-9716-854CAE5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A4DE-41BB-4CFE-A9CB-D4696636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FAA4-0483-41A1-A527-97946B7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EE85-9476-4C7C-8617-61E77B7C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3092-272F-4E78-B151-35C33DEA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5639-CF41-4577-8EA7-2F527C2B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A4FB-98C8-4B22-A1CD-7D67CBF1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C15-D47C-4E5E-B667-F7B81853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4A94-8593-45EC-973C-57C23F6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BD78-6976-426D-AB34-76E81025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5974-7B68-4977-A10A-A38ECF08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DC3A-E033-43BA-9E1C-866B13B4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A16C-CEC6-4AB6-8FB5-2857AC6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5650-9DA2-4140-A768-10BFDE5D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891E2-2D75-4369-A069-AF44CD55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CB8D-E839-4667-83F5-0F59325D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8D61-E660-43B1-B1F6-2286F880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FD87-6F7E-43EE-A327-29305FF5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BD1-1170-4713-9CD0-B7CC7B80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C832-DE60-4B6E-A80E-7A001E78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3784-2194-4933-9FC4-1C4BF882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CDB7-D02F-4A79-BEBA-24C093C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54C7-4F20-4F76-911F-A792A83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092A-45A4-4AE0-A62D-E944F568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F41B-6E55-4DD4-84F5-A324FD8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A2039-C490-41B1-8771-02AE098F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C263-670F-4996-AA19-023D330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F1F68-8A18-448A-9443-9433CEF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CF59-1DD5-4CC8-9D35-5907896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5A7-931A-49C6-994B-3F2158C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7C90-B728-4490-B59D-D2E05C7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DD726-D9F5-4E9A-87E0-FBB4CD04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3144-EE9A-4DAD-A7E3-C0E80D56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091E-9C3C-4840-A788-725AFAB9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642D5-9BE0-4D00-AAE6-72BCEB5A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44D9-6ED8-4B36-AC48-3AA9CAA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3F7E-510C-4240-9F8C-EBE0534A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78FF-6E99-4936-80DB-FA608DB2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5FB2-9B7F-4947-8F19-4414E30B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E390-7C15-42F4-91B3-F6010B2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0D3-8B33-45C2-9985-3AAEFC8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F79D-88EF-4521-A1F2-60F1532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7241A-DDE7-4ED1-96B1-861F3914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5064-33F5-4117-9830-808FEAAC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2DA8E-754E-482E-8345-E8E4D6EE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AAA4A-B225-4192-8EC7-DB0AAA47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0A6C-968A-490D-8C1E-E0B7E3DF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93C05-86A6-4342-8D7A-AF9ED27A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F661-5D40-433D-9B65-B44B3331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19239-2443-4ACE-9221-C1B3A0A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8812-F4FD-4587-B920-D43F6B8B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BB5-C776-48A4-A328-5BB3CE2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93ED-2B1B-47BD-99FC-8C02808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1C1BA-D2B1-4839-BCBD-A663FCB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3541-702B-428B-91A8-E443AD5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AA19-5DF8-48A5-B95C-7181E4E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C88E6-61DF-4295-961B-E2CB1DB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B6299-1BA1-4C8A-9D97-44BBA318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D611-5F2D-465E-8950-2B836B8F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D6279-0BF6-41FA-B323-37EC2A1A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BAE5B-E5AB-4ADA-B818-65F0AAD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2713A-6394-4500-8D58-0A7A5EF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F0F7-1397-4068-B335-C8D074A7B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99F5-3A7A-4031-BC56-7A696F823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6960-E39A-4D6B-BDE9-41A50DCC8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2E0-9E01-4C5C-8C6A-EE2DB2821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C38-E51A-4A0E-8184-F2C860BC7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0CA-03DB-46FF-A564-2BDA16767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0538-973C-460A-9661-DB4BEA09E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1FB-CFB2-4DB1-9BDA-42C860EB52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F32-B799-42C7-8F8A-1B939CF6E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BB00-B787-4016-85E6-C217D0182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CCC-901A-4BB9-8FBE-FFB04FC2ED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3FE3-B9F7-4047-A63E-C9B3B3181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KE BULLOCK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KE MUN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it 10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ee Trade and Exchange Rat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ade Between 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ources are not distributed equally across earth / n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ons trade to get what they don’t ha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e also means mutual gains for both countr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s means that both parties are better off after the trade than they were before the trad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a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untry specializes in whatever area of production it is most efficient at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ads to increased efficiency and spurs trad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antag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bsol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n a country is can make a product with less resources or in less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country can produce more with the same amount of re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countries one produ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ati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n a country has a lower opportuity costs for a particular product relative to another produc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countries   2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riff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x on Import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owers imported supply by driving up prices of foreign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rease prices of foreign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crease demand of foreign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reates Tax revenue for importing governm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tricts all exporting countries equal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ot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egal limit on the amount of goods that can be import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ces limit on number of goods and therefore drives up pr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ly is shrunk so therefore price u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ce increase goes to domestic distributors instead of tax reven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otas discriminate based on political bi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change Ra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s the price of one currency in terms of ano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lo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ate for every other currenc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termined by supply and demand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and side comes from want to buy another nations good, services, or financial instru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pply is determined by the need to buy another nations currency in order to buy their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reciation Depreci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ng run = inflation r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 inflation rates mean less demand and thus depreci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dium run = economic ac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conomic activity results in more supply of currency resulting in depreci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rt run = interest r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 interest rates means more demand for currency resulting in appreci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 Recession … Global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RGDP fa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orts f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eign countries exports f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eign countries RGDP fa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6:56Z</dcterms:created>
  <dc:creator>Diegel.b696</dc:creator>
  <dc:description/>
  <dc:language>en-US</dc:language>
  <cp:lastModifiedBy>Diegel.b696</cp:lastModifiedBy>
  <dcterms:modified xsi:type="dcterms:W3CDTF">2009-01-26T18:56:01Z</dcterms:modified>
  <cp:revision>4</cp:revision>
  <dc:subject/>
  <dc:title>Unit 10 Free Trade and Exchange Rates</dc:title>
</cp:coreProperties>
</file>